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8505"/>
        <c:axId val="28686837"/>
      </c:barChart>
      <c:catAx>
        <c:axId val="1938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86837"/>
        <c:crosses val="autoZero"/>
        <c:auto val="1"/>
        <c:lblAlgn val="ctr"/>
        <c:lblOffset val="100"/>
        <c:noMultiLvlLbl val="0"/>
      </c:catAx>
      <c:valAx>
        <c:axId val="28686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8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757-24FF-4BDF-9B6E-DD08FF9A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9FA-B646-408E-9D01-4D8D02DA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ACE-856B-4122-A598-8FE3E667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028-8A87-454D-8AAC-0D134A38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93A-ABED-4A9A-8C51-7FD538E8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707-AD00-4BBF-A1C1-5B7117BF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2A0-95AB-4CB5-95A5-3E098FD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547-E4BB-4271-AB9F-538C71C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4B4-99E0-4F95-9607-3120C552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30E-9DA0-4D18-B7E1-A5DEE65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B9D-3B9C-42E6-A9F1-5A8053B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9AC-AF64-4F92-A680-D36EEC8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EB4CD-0AC4-423B-B949-FBFC6927E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