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03473"/>
        <c:axId val="5477388"/>
      </c:barChart>
      <c:catAx>
        <c:axId val="823034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7388"/>
        <c:crosses val="autoZero"/>
        <c:auto val="1"/>
        <c:lblAlgn val="ctr"/>
        <c:lblOffset val="100"/>
        <c:noMultiLvlLbl val="0"/>
      </c:catAx>
      <c:valAx>
        <c:axId val="5477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034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5233-0706-443A-AEAE-FB8C7C9A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C0B7-E3CF-40F1-BEA2-95F5874E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0117-0086-4013-AF51-8613B8EB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C6CB-4D08-4515-A04B-70695656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0C1F-736F-42DE-B514-D2ED077E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59AD-8FF5-41B0-8870-CF566484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6AC6-D23D-4442-AFCB-A4B1F5D4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9D67-29AF-496F-B354-7714FEAE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CAC7-68A4-4363-8886-AA87598D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42F-856C-4778-90DF-0F9FD872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50FF-3CF6-4781-A4EC-F2427736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2EB3-6B87-4883-8E39-F0886C8C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1BCB8-C765-4574-9045-2ED67190DF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