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24997"/>
        <c:axId val="92220847"/>
      </c:barChart>
      <c:catAx>
        <c:axId val="945249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20847"/>
        <c:crosses val="autoZero"/>
        <c:auto val="1"/>
        <c:lblAlgn val="ctr"/>
        <c:lblOffset val="100"/>
        <c:noMultiLvlLbl val="0"/>
      </c:catAx>
      <c:valAx>
        <c:axId val="92220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249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897-F15C-4242-B4AC-0B8BC913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FC93-B323-4339-9BF5-BF8F2CBD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7B33-DCA1-4A51-B443-432478A7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5DEF-5772-4375-9B9B-604E80E4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5A5-1BF8-40AF-8256-2A0CA275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10E-3779-47CB-9EAE-40705E3A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6F00-9074-4EE1-A374-8F40E62E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5F1-6E3A-4D89-A58F-497DCB4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F5C-2F20-409B-A55E-2FE5B726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4671-BEB1-4AF7-A9D9-0E6AA90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433-B0D3-42F9-84D9-38F69490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E9D-C8F2-47D3-8444-157AD823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95323-6631-43F9-81B8-ABA04DE3D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